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1383840"/>
            <a:ext cx="514368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4876560"/>
            <a:ext cx="514368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3640" y="2768400"/>
            <a:ext cx="5143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0028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445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891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79IYZVYIVLA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22ndcenturyclassroom.wikispaces.com/Web+3.0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66400" y="-27972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ffffff"/>
                </a:solidFill>
                <a:latin typeface="Helvetica Neue Light"/>
              </a:rPr>
              <a:t>Tracing Your Steps</a:t>
            </a:r>
            <a:endParaRPr b="0" lang="en-US" sz="10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7600" y="32508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2b0ff"/>
                </a:solidFill>
                <a:latin typeface="Helvetica Neue Light"/>
              </a:rPr>
              <a:t>Understanding Your Digital Footprint</a:t>
            </a:r>
            <a:endParaRPr b="0" lang="en-US" sz="56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53" name=""/>
          <p:cNvSpPr/>
          <p:nvPr/>
        </p:nvSpPr>
        <p:spPr>
          <a:xfrm>
            <a:off x="8680320" y="8397000"/>
            <a:ext cx="3464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2b0ff"/>
                </a:solidFill>
                <a:latin typeface="Helvetica Neue Light"/>
                <a:ea typeface="Helvetica Neue Light"/>
              </a:rPr>
              <a:t>Jill Machemer</a:t>
            </a:r>
            <a:endParaRPr b="0" lang="en-US" sz="43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4648320" y="471168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108000" y="1434960"/>
            <a:ext cx="12776040" cy="71391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3505320" y="9004320"/>
            <a:ext cx="598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Digital Footprint Calculator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Helvetica Neue Light"/>
              </a:rPr>
              <a:t>http://www.emc.com/digital_universe/downloads/web/personal-ticker.htm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43240" y="4513320"/>
            <a:ext cx="1191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 Light"/>
                <a:ea typeface="Helvetica Neue Light"/>
                <a:hlinkClick r:id="rId2"/>
              </a:rPr>
              <a:t>http://www.youtube.com/watch?v=79IYZVYIVLA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6" name=""/>
          <p:cNvSpPr/>
          <p:nvPr/>
        </p:nvSpPr>
        <p:spPr>
          <a:xfrm>
            <a:off x="489600" y="1953000"/>
            <a:ext cx="6246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Digital Dossier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Who are YOU?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57480" y="184104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Helvetica Neue Light"/>
              </a:rPr>
              <a:t>More content we contribute, the more we are findable &amp; knowable</a:t>
            </a:r>
            <a:endParaRPr b="0" lang="en-US" sz="50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Helvetica Neue Light"/>
              </a:rPr>
              <a:t>9 out of 10 users who locate info about themselves say most of what they find is accurate (up 74% from 5 yrs. ago)</a:t>
            </a:r>
            <a:endParaRPr b="0" lang="en-US" sz="50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3505320" y="9055080"/>
            <a:ext cx="598176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7320" y="37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Awarenes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1160" y="2019240"/>
            <a:ext cx="11430000" cy="64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lvetica Neue Light"/>
              </a:rPr>
              <a:t>Internet users are becoming more aware of their digital footprint</a:t>
            </a:r>
            <a:endParaRPr b="0" lang="en-US" sz="44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lvetica Neue Light"/>
              </a:rPr>
              <a:t>47% have searched for information about themselves online</a:t>
            </a:r>
            <a:endParaRPr b="0" lang="en-US" sz="44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lvetica Neue Light"/>
              </a:rPr>
              <a:t>3% of self-searchers report that they make a regular habit of it</a:t>
            </a:r>
            <a:endParaRPr b="0" lang="en-US" sz="44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lvetica Neue Light"/>
              </a:rPr>
              <a:t>74% have checked up on their digital footprints only once or twice</a:t>
            </a:r>
            <a:endParaRPr b="0" lang="en-US" sz="44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3898800" y="8966160"/>
            <a:ext cx="598176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628560" y="2844720"/>
            <a:ext cx="7931160" cy="18036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3632040" y="5537160"/>
            <a:ext cx="7925040" cy="1866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 rot="20002800">
            <a:off x="9132480" y="1123560"/>
            <a:ext cx="2082960" cy="29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04840" y="876240"/>
            <a:ext cx="1143000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What Category are You In?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822840" y="8852040"/>
            <a:ext cx="5981400" cy="5713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20520" y="3048120"/>
            <a:ext cx="1295892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In the Work Place...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330120" y="2768760"/>
            <a:ext cx="11684160" cy="8888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1417680" y="4368960"/>
            <a:ext cx="9821880" cy="16002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414360" y="6807240"/>
            <a:ext cx="11155320" cy="10033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3505320" y="9118440"/>
            <a:ext cx="598176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Digital Shadow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44520" y="1663560"/>
            <a:ext cx="11963520" cy="718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94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Helvetica Neue Light"/>
              </a:rPr>
              <a:t>images on a surveillance camera</a:t>
            </a:r>
            <a:endParaRPr b="0" lang="en-US" sz="39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Helvetica Neue Light"/>
              </a:rPr>
              <a:t>bank records</a:t>
            </a:r>
            <a:endParaRPr b="0" lang="en-US" sz="39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Helvetica Neue Light"/>
              </a:rPr>
              <a:t>retail and airline purchase records</a:t>
            </a:r>
            <a:endParaRPr b="0" lang="en-US" sz="39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Helvetica Neue Light"/>
              </a:rPr>
              <a:t>telephone records</a:t>
            </a:r>
            <a:endParaRPr b="0" lang="en-US" sz="39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Helvetica Neue Light"/>
              </a:rPr>
              <a:t>medical database entries, copies of hospital scans, </a:t>
            </a:r>
            <a:endParaRPr b="0" lang="en-US" sz="39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Helvetica Neue Light"/>
              </a:rPr>
              <a:t>information about your web searches</a:t>
            </a:r>
            <a:endParaRPr b="0" lang="en-US" sz="39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Helvetica Neue Light"/>
              </a:rPr>
              <a:t>information about credit card purchases, etc.</a:t>
            </a:r>
            <a:endParaRPr b="0" lang="en-US" sz="39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The Semantic Web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2018880"/>
            <a:ext cx="9461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3"/>
              </a:rPr>
              <a:t>http://22ndcenturyclassroom.wikispaces.com/Web+3.0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